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30F6-15E8-41D3-9596-0AC40943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2973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41A9-29F5-4EBF-81AE-F7629DB0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12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6D5-2963-4F77-B1D6-65E453DC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152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76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152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76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CAFA-283A-49DC-80A8-DB846975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43F1-E00E-4CC0-BD43-2F1EEEAD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9837-BA7E-4490-B5C9-8920DFBB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603D-E236-4451-9A35-9A483026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EDCB-F2C6-4513-BBF2-5820D9E5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206280"/>
            <a:ext cx="8075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3856-94BB-4FF2-8D83-57AF2AB5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C49F-05A5-4333-ABE5-5C64FBFB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12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81A6-B524-4E4E-83F8-A088284D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1F4C-C87D-486B-919D-8B8BD2AD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1280" y="476676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DD0C-92DC-479D-94E6-D0A1ADED4E61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11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DA17-ABBF-4C68-801C-188FFB78168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1"/>
          <p:cNvSpPr/>
          <p:nvPr/>
        </p:nvSpPr>
        <p:spPr>
          <a:xfrm>
            <a:off x="7010280" y="11160"/>
            <a:ext cx="2133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1EE2-2C19-442B-8C5F-6A3FD432812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01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2143080" y="14292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РЕПОРТАЖ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ицей 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8"/>
          <p:cNvSpPr/>
          <p:nvPr/>
        </p:nvSpPr>
        <p:spPr>
          <a:xfrm>
            <a:off x="2935440" y="987480"/>
            <a:ext cx="3652560" cy="195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сентября 2021г. прошла  ежегодная Всемирная образовательная акция «</a:t>
            </a:r>
            <a:r>
              <a:rPr b="1" i="1" lang="ru-RU" sz="11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Татарча диктант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 «</a:t>
            </a:r>
            <a:r>
              <a:rPr b="1" i="1" lang="ru-RU" sz="1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тарча диктант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— это диктант на татарском языке, обучение татарскому языку без ошибок, увеличение круга пользователей литературного татарского языка, проверка орфографических и грамматических ошибок. Акция направлена на повышение интереса к грамотному правописанию, владению литературным татарским, самопроверку орфографических и грамматических ошибок. Из нашего лицея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яли участие 83 учащих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2" descr=""/>
          <p:cNvPicPr/>
          <p:nvPr/>
        </p:nvPicPr>
        <p:blipFill>
          <a:blip r:embed="rId2"/>
          <a:stretch/>
        </p:blipFill>
        <p:spPr>
          <a:xfrm>
            <a:off x="687240" y="987480"/>
            <a:ext cx="2097360" cy="18320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"/>
          <p:cNvPicPr/>
          <p:nvPr/>
        </p:nvPicPr>
        <p:blipFill>
          <a:blip r:embed="rId3"/>
          <a:stretch/>
        </p:blipFill>
        <p:spPr>
          <a:xfrm>
            <a:off x="763560" y="3141720"/>
            <a:ext cx="2067120" cy="16891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"/>
          <p:cNvPicPr/>
          <p:nvPr/>
        </p:nvPicPr>
        <p:blipFill>
          <a:blip r:embed="rId4"/>
          <a:stretch/>
        </p:blipFill>
        <p:spPr>
          <a:xfrm>
            <a:off x="3308400" y="3240000"/>
            <a:ext cx="2952720" cy="15652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9" descr=""/>
          <p:cNvPicPr/>
          <p:nvPr/>
        </p:nvPicPr>
        <p:blipFill>
          <a:blip r:embed="rId5"/>
          <a:stretch/>
        </p:blipFill>
        <p:spPr>
          <a:xfrm>
            <a:off x="6765840" y="1130400"/>
            <a:ext cx="2133720" cy="16891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1" descr=""/>
          <p:cNvPicPr/>
          <p:nvPr/>
        </p:nvPicPr>
        <p:blipFill>
          <a:blip r:embed="rId6"/>
          <a:stretch/>
        </p:blipFill>
        <p:spPr>
          <a:xfrm>
            <a:off x="6721560" y="3048120"/>
            <a:ext cx="217800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1"/>
          <p:cNvSpPr/>
          <p:nvPr/>
        </p:nvSpPr>
        <p:spPr>
          <a:xfrm>
            <a:off x="7010280" y="11160"/>
            <a:ext cx="2133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BD59-D1EE-4E7C-998A-EB761E59D2B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0180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2143080" y="14292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РЕПОРТАЖ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ицей 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3"/>
          <p:cNvSpPr/>
          <p:nvPr/>
        </p:nvSpPr>
        <p:spPr>
          <a:xfrm>
            <a:off x="4419720" y="2419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1" descr=""/>
          <p:cNvPicPr/>
          <p:nvPr/>
        </p:nvPicPr>
        <p:blipFill>
          <a:blip r:embed="rId2"/>
          <a:stretch/>
        </p:blipFill>
        <p:spPr>
          <a:xfrm>
            <a:off x="1042920" y="1058760"/>
            <a:ext cx="2303640" cy="1800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5" descr=""/>
          <p:cNvPicPr/>
          <p:nvPr/>
        </p:nvPicPr>
        <p:blipFill>
          <a:blip r:embed="rId3"/>
          <a:stretch/>
        </p:blipFill>
        <p:spPr>
          <a:xfrm>
            <a:off x="6229440" y="1058760"/>
            <a:ext cx="2303280" cy="18003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7" descr=""/>
          <p:cNvPicPr/>
          <p:nvPr/>
        </p:nvPicPr>
        <p:blipFill>
          <a:blip r:embed="rId4"/>
          <a:stretch/>
        </p:blipFill>
        <p:spPr>
          <a:xfrm>
            <a:off x="3635280" y="1058760"/>
            <a:ext cx="2238480" cy="1800360"/>
          </a:xfrm>
          <a:prstGeom prst="rect">
            <a:avLst/>
          </a:prstGeom>
          <a:ln w="0">
            <a:noFill/>
          </a:ln>
        </p:spPr>
      </p:pic>
      <p:sp>
        <p:nvSpPr>
          <p:cNvPr id="61" name="TextBox 15"/>
          <p:cNvSpPr/>
          <p:nvPr/>
        </p:nvSpPr>
        <p:spPr>
          <a:xfrm>
            <a:off x="971640" y="3219480"/>
            <a:ext cx="763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сентября  прошло внеклассное мероприятие, “Тапкырлар һәм зирәкләр” посвящённое Году родных языков и народного единства. Цель мероприятия - познакомить учащихся с культурой и традициями родного края. Команды 6  классов  показали свои  знания, умения, навыки  по родному языку, отлично справились со всеми заданиями. В заключении, дружно исполненная  песня  "Туган тел" объединила всех  коман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1"/>
          <p:cNvSpPr/>
          <p:nvPr/>
        </p:nvSpPr>
        <p:spPr>
          <a:xfrm>
            <a:off x="7010280" y="11160"/>
            <a:ext cx="2133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D77C-96B5-4D13-A8DA-F549912E91B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0180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2143080" y="14292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РЕПОРТАЖ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ицей 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6" descr=""/>
          <p:cNvPicPr/>
          <p:nvPr/>
        </p:nvPicPr>
        <p:blipFill>
          <a:blip r:embed="rId2"/>
          <a:stretch/>
        </p:blipFill>
        <p:spPr>
          <a:xfrm>
            <a:off x="3203640" y="843120"/>
            <a:ext cx="2665440" cy="15984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3"/>
          <a:stretch/>
        </p:blipFill>
        <p:spPr>
          <a:xfrm>
            <a:off x="900000" y="843120"/>
            <a:ext cx="1871640" cy="16174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"/>
          <p:cNvPicPr/>
          <p:nvPr/>
        </p:nvPicPr>
        <p:blipFill>
          <a:blip r:embed="rId4"/>
          <a:stretch/>
        </p:blipFill>
        <p:spPr>
          <a:xfrm>
            <a:off x="6372360" y="843120"/>
            <a:ext cx="1873080" cy="1584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16"/>
          <p:cNvSpPr/>
          <p:nvPr/>
        </p:nvSpPr>
        <p:spPr>
          <a:xfrm>
            <a:off x="611280" y="2571840"/>
            <a:ext cx="820872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Arial"/>
              </a:rPr>
              <a:t>Сегодня мы всё чаще обращаемся к духовным ценностям прошлого, пытаемся искать пути восстановления прерванных связей времён, осознаём необходимость изучения своих национальных корней как источника нашего нравственного здоровья, силы и богатства. Занятия внеурочной деятельности «Яшь экскурсовод» расширяет кругозор ребят, воспитывает любовь к малой родине, гордость за свой народ, настоящих людей прошлого и настоящего, воспитываются патриотизм, идеалы гуманизма и справедливости. Учащиеся </a:t>
            </a:r>
            <a:r>
              <a:rPr b="1" i="1" lang="tt-RU" sz="1100" spc="-1" strike="noStrike">
                <a:solidFill>
                  <a:srgbClr val="000000"/>
                </a:solidFill>
                <a:latin typeface="Arial"/>
              </a:rPr>
              <a:t>7 класса </a:t>
            </a:r>
            <a:r>
              <a:rPr b="1" i="1" lang="ru-RU" sz="1100" spc="-1" strike="noStrike">
                <a:solidFill>
                  <a:srgbClr val="000000"/>
                </a:solidFill>
                <a:latin typeface="Arial"/>
              </a:rPr>
              <a:t>принимают активное участие в работе кружка. </a:t>
            </a:r>
            <a:r>
              <a:rPr b="1" i="1" lang="tt-RU" sz="1100" spc="-1" strike="noStrike">
                <a:solidFill>
                  <a:srgbClr val="000000"/>
                </a:solidFill>
                <a:latin typeface="Arial"/>
              </a:rPr>
              <a:t>21 октября для 1 классов была организована экскурсия на выставку, посвящённую культуре татарского народа, где выставлены проектные работы учащихся в виде национальной одежды, элементов быта, угощений, украшений.  В ходе экскурсии ребята окунулись в историю культуры татарского народа, познакомились с их бытм и традициями. Затем с ребятами был проведен мастер-класс по изготовлению броши  с элементом национального орнамента. Посещение выставки стало значимым событием для них, они с интересом восприняли новую информацию и прониклись новыми впечатлениями</a:t>
            </a:r>
            <a:r>
              <a:rPr b="1" i="1" lang="tt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3T08:15:21Z</dcterms:created>
  <dc:creator>Ковалева Валерия Юрьевна</dc:creator>
  <dc:description/>
  <dc:language>en-US</dc:language>
  <cp:lastModifiedBy>1</cp:lastModifiedBy>
  <cp:lastPrinted>2021-02-04T07:26:50Z</cp:lastPrinted>
  <dcterms:modified xsi:type="dcterms:W3CDTF">2021-11-12T19:10:34Z</dcterms:modified>
  <cp:revision>466</cp:revision>
  <dc:subject/>
  <dc:title>Презентация PowerPoint</dc:title>
</cp:coreProperties>
</file>